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E8AB-7501-4AF6-BAF1-2C214C377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7717-A284-4D09-80F6-89E392F44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scientificamerican.com/article.cfm?id=1000-genomes-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9C14-0003-45EC-B310-AC677630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bc.co.uk/schools/gcsebitesize/science/add_gateway_pre_2011/living/cloningrev4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C52E-BB1B-48AC-A21B-35CACBB08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9reproduction.wikispaces.com/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link to Dolly the Sheep: https://www.youtube.com/watch?v=YoEWYJHf0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F178-7584-4DBA-BEEA-98B7B6A4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interesting video on cloning stem cells for organ transplants: https://www.youtube.com/watch?v=pPz8LEQq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BCB2-6E28-43E8-926D-04C317D15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ailymail.co.uk/sciencetech/article-1131349/Couple-devastated-death-beloved-dog-pay-100-000-clone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lot di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ean company BioArts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xb5404.blogspot.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28BA-8843-481D-84C3-553B17C8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1163-42D6-4205-A126-ECAA8CE56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mmortalhumans.com/the-potential-good-of-human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 about human cloning: https://www.youtube.com/watch?v=7tbxN5uwaq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ck12.org/book/CK-12-Biology-Concepts/section/3.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C99C-D681-4BDF-A8EF-FDF03A2D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0717-7CE7-4A54-B855-D4E55F57B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appinions.com/2012/03/06/a-look-at-the-pros-and-cons-of-digital-influe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3CED-30F7-48AA-BA3C-3A700D5D6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4C51-EF3D-40FD-9EBC-E0EA61480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dandelion from: http://www.dandeliondelight.com/dandelion-roo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strawberry from: http://www.livinggardenseries.com/move-strawberries-now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67F5-32C9-489E-B53E-95C38B830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Hydra budding: http://www.studyblue.com/notes/note/n/saoutis-cells/deck/66877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yeast budd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D9B6-88A0-499F-A3C2-540E90B8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shadylanetreecare.com/tree-insect-control-aph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cycle image from: http://userwww.sfsu.edu/biol240/labs/lab_15animallifecycles/pages/15asexu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AE72-7ECC-451B-A047-647A89CC5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it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9EBA-2773-44CF-9510-5AB727A8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me.comcast.net/~clupold96/notes%20pages/chromosomes_ti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1C0-09CC-4693-B31D-872D1714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A55-AD03-43E2-ACEE-11C21904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FDF-E3D5-4B58-BCD2-EE70BB24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EEA-EBB2-48EE-936A-87A46DC3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211-33AE-47BD-AE1D-0ACE4543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58D-C03A-4CF1-9A1A-D6F34342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54D-75AE-4F69-B9D0-66BFCC5A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BC8-6428-4DC8-937E-901EC916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F8E-D317-41D7-9427-1B2D8735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7C4-E46A-40B6-9E68-BBA961A4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CF5-51C9-4545-A497-D510A25B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C65-F771-4572-9256-46B8234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C665-A5F0-4611-838D-EFE4A6ED3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oEWYJHf0kU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7tbxN5uwaqA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s://www.youtube.com/watch?v=R-EyDKCRM_U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dity &amp; A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 &amp;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iplantcloning"/>
          <p:cNvPicPr/>
          <p:nvPr/>
        </p:nvPicPr>
        <p:blipFill>
          <a:blip r:embed="rId1"/>
          <a:stretch/>
        </p:blipFill>
        <p:spPr>
          <a:xfrm>
            <a:off x="1335240" y="1981080"/>
            <a:ext cx="6473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mal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loning2"/>
          <p:cNvPicPr/>
          <p:nvPr/>
        </p:nvPicPr>
        <p:blipFill>
          <a:blip r:embed="rId2"/>
          <a:stretch/>
        </p:blipFill>
        <p:spPr>
          <a:xfrm>
            <a:off x="1427040" y="1981080"/>
            <a:ext cx="628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production of prized animals &amp;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ning genetically-modified organisms (GMOs) such as yeast or bacteria for insulin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endangered species populations or even “de-extinction” of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ning 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4" descr="article-1131349-03392249000005DC-63_468x588.jpg"/>
          <p:cNvPicPr/>
          <p:nvPr/>
        </p:nvPicPr>
        <p:blipFill>
          <a:blip r:embed="rId1"/>
          <a:srcRect l="-68661" t="0" r="-68661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rns of Clo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3" descr="untitled.png"/>
          <p:cNvPicPr/>
          <p:nvPr/>
        </p:nvPicPr>
        <p:blipFill>
          <a:blip r:embed="rId1"/>
          <a:srcRect l="0" t="10579" r="0" b="10579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uman 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uman_cloning"/>
          <p:cNvPicPr/>
          <p:nvPr/>
        </p:nvPicPr>
        <p:blipFill>
          <a:blip r:embed="rId2"/>
          <a:srcRect l="0" t="4460" r="0" b="446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recen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de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IME magazine Health.  Warning: very cute baby mon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or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ene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NA?  A gene?  A loc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differences between asexual &amp; sexual repro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5" descr="f-d-17725bfed904f7a228c48944e2a864cc575cefe2838fa8d10bbdea7d+IMAGE+IMAGE.1.png"/>
          <p:cNvPicPr/>
          <p:nvPr/>
        </p:nvPicPr>
        <p:blipFill>
          <a:blip r:embed="rId1"/>
          <a:srcRect l="0" t="-82915" r="0" b="-82915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vs. Sex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solar-energy-pros-and-cons-300x200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(through roots or shoots, e.g., strawberry plant, dandelion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ing (e.g., hydra, ye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 (e.g., mushroom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dandelion-root-in-ground"/>
          <p:cNvPicPr/>
          <p:nvPr/>
        </p:nvPicPr>
        <p:blipFill>
          <a:blip r:embed="rId1"/>
          <a:stretch/>
        </p:blipFill>
        <p:spPr>
          <a:xfrm>
            <a:off x="457200" y="1371600"/>
            <a:ext cx="3962520" cy="310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strawberry-runners-300x225"/>
          <p:cNvPicPr/>
          <p:nvPr/>
        </p:nvPicPr>
        <p:blipFill>
          <a:blip r:embed="rId2"/>
          <a:stretch/>
        </p:blipFill>
        <p:spPr>
          <a:xfrm>
            <a:off x="4495680" y="259236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oxford-scientific-green-hydra-budding1320252781957"/>
          <p:cNvPicPr/>
          <p:nvPr/>
        </p:nvPicPr>
        <p:blipFill>
          <a:blip r:embed="rId1"/>
          <a:stretch/>
        </p:blipFill>
        <p:spPr>
          <a:xfrm>
            <a:off x="533520" y="820800"/>
            <a:ext cx="3962160" cy="529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budding-yeast"/>
          <p:cNvPicPr/>
          <p:nvPr/>
        </p:nvPicPr>
        <p:blipFill>
          <a:blip r:embed="rId2"/>
          <a:stretch/>
        </p:blipFill>
        <p:spPr>
          <a:xfrm>
            <a:off x="4572000" y="2365200"/>
            <a:ext cx="388620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ids -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Lic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tree-insect-control-aphid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aphids"/>
          <p:cNvPicPr/>
          <p:nvPr/>
        </p:nvPicPr>
        <p:blipFill>
          <a:blip r:embed="rId2"/>
          <a:stretch/>
        </p:blipFill>
        <p:spPr>
          <a:xfrm>
            <a:off x="4495680" y="2274840"/>
            <a:ext cx="38862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itosis-process-illustration"/>
          <p:cNvPicPr/>
          <p:nvPr/>
        </p:nvPicPr>
        <p:blipFill>
          <a:blip r:embed="rId1"/>
          <a:stretch/>
        </p:blipFill>
        <p:spPr>
          <a:xfrm>
            <a:off x="1969920" y="1371600"/>
            <a:ext cx="527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, Chromat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ingle_to_double_stranded_chromosome"/>
          <p:cNvPicPr/>
          <p:nvPr/>
        </p:nvPicPr>
        <p:blipFill>
          <a:blip r:embed="rId1"/>
          <a:stretch/>
        </p:blipFill>
        <p:spPr>
          <a:xfrm>
            <a:off x="1492200" y="1981080"/>
            <a:ext cx="615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0:48:18Z</dcterms:created>
  <dc:creator>rubina khan</dc:creator>
  <dc:description/>
  <dc:language>en-US</dc:language>
  <cp:lastModifiedBy>rubina khan</cp:lastModifiedBy>
  <dcterms:modified xsi:type="dcterms:W3CDTF">2018-02-06T17:47:20Z</dcterms:modified>
  <cp:revision>58</cp:revision>
  <dc:subject/>
  <dc:title>PowerPoint Presentation</dc:title>
</cp:coreProperties>
</file>